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131-4A0A-419B-B988-5E12CD22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DC4-0BB9-4B5B-88E9-6C165700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90B-FA83-49A4-95FE-C386DD87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025-B7C3-45D5-88BD-C4F71384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F38A-F613-42A8-A84D-AA1FC8DE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67D1-D16B-4C70-979B-88788186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3268-BBEC-49D4-BF08-067ED440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652D-86C6-4B53-ADEC-C5C15649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928C-4123-480A-80B1-10D42489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3583-C5A5-499B-8FDC-3C04468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0519-35E2-4B3C-8A2F-5088D2D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CC1-2176-435E-92C2-CC1F8BD1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0675-F43A-4A31-A9DD-0498B1F3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ADD4-D6D0-4901-81D2-30684972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5637-BE64-40A6-BBA2-FFBA2FA8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ABAB-57BF-44DF-892F-38CE54E6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6957-0E2D-4F76-ACB2-6C1D943D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AD5-6DF9-4572-8FA5-3F5F255A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223-FAC3-4424-965F-B601068E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D96-45DA-4959-80DD-F294EA32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DE4-733A-40DD-AB5C-F2D89A16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AC0-F81B-4CE0-B26D-E410CF3F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A56-1726-4A88-9823-44FAAFC9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4F5-5E36-4E34-A730-AA0DA0C1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9072-5EE8-458D-BFB7-AA4C46C073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ECF9-0463-4A56-BCC5-C736AEB91A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eg vagy-e tisztulva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újjá lettél-e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iszta vagy Jézus vére által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zabad vagy má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inden rabságtól mentve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Tiszta vagy Jézus vére által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eg vagy-e tisztulva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ézus megmentő vére által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És ruhád már fényes fehé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int a hó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Tiszta vagy Jézus vére által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a majd Jézus eljö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észen várod-e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Tiszta vagy Jézus vére által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ajtad van má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zent ruhád és koronád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Tiszta vagy Jézus vére által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eg vagy-e tisztulva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ézus megmentő vére által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És ruhád már fényes fehé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int a hó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Tiszta vagy Jézus vére által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zért valld meg bűnö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 rázd le rabláncod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égy tiszta Jézus vére által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Élő forrás folyik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sd meg szívedet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Légy tiszta Jézus vére által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eg vagy-e tisztulva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ézus megmentő vére által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És ruhád már fényes fehé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int a hó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Tiszta vagy Jézus vére által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eg vagyok tisztulva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ézus megmentő vére által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és ruhám már fényes fehé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int a hó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iszta vagyok Jézus vére által!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58200" y="3049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yügyei Tamás</cp:lastModifiedBy>
  <dcterms:modified xsi:type="dcterms:W3CDTF">2005-09-11T06:39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